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12DFF-E24E-4C53-9CBA-39F72394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4C215-EF07-420E-A73B-9A7C76B4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17EFF-6E6A-4E0D-A279-B3F15155F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F48BBC-9857-4BB8-A777-42250BBF6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B1C871-AE8D-475F-B71E-6A8E802B1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F64D1-06B2-481B-A46A-ED4D36DE8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04C0A-5B02-4FF8-B027-3AFA767B1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835A4-6416-4659-A011-069FF7E09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4E6FBD-6A5F-43F8-92C9-CE47DAFFF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822190-9E98-4F9B-A296-C89D2000BC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8373D2-E4B9-4ACC-8A79-1E78BDF307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E21C54-91BB-45EE-8A54-FDF88F7A99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3314D-15E5-44EA-8D6D-87F740A08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2AC03B-E06A-4842-8A59-016267FBB5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2CD59E-5AF6-42D1-9A73-BBD8232C33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4B69CA-0C7F-4B18-98FA-586C57E49A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9CA1EB-E250-4519-ADC7-2400629A59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06A504-569D-4A76-8091-7ACF9750E7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17428-802B-4DE0-B6C2-2EBC81EA72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05B00-8FF7-4490-BD56-92EAB2C2D4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0F2B57-2F90-4335-A09A-7CC974083F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4FBB49-7ACE-4694-B30B-1ECD3C678C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794B26-3C04-4F39-8850-AD51A50051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BACD7-AB21-408E-B181-ED45E82F6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413A16-F30E-47A9-A084-A6734E1732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0449BD-F3AC-4F25-98A8-2705B8225D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25DFA3-BE39-4B57-89C6-AFD74CF780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B09EFD-5C0B-4A94-9684-4202EE61DB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F08E27-646E-4204-B491-3CA40C57F3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9896E0-E8C9-4769-83C9-1F72591B35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DBC762-A987-4BF0-A4C0-38853BFC46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5A6961-F968-4163-AD5B-1E286C83FD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11A39F-65C3-480E-B385-DBAC80AB8C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7CC7B2-B8E5-4683-BAEA-0692F27D6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78F8A-C24E-4AD7-9B64-6E3CADF0D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C3DB30-9FC0-45D9-B8FB-5DBAACE05D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2080CC-6E76-4A9B-8428-27B18E1FFD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7B5D92-CF39-4281-A851-2CB64006AE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69C89E-7643-4AFA-A820-9F3AE76DC9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690E43-51A3-4149-8786-32A869F849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3AE07C-7298-4D7F-8F7A-8F1E361DDB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CC2DBF-2C5F-43C4-AFBC-5DF5AF78CC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C86EF-E798-43B7-B2D3-6AAEB09F72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74A6AE-00CB-4F45-A948-45970526F0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8AF8E7-5702-4F9F-AB8F-6F3ECC135B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554BE-350E-454C-A4AD-A5DD56170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C3AA7E-F1D7-444F-88DE-3FD028060F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4E0EB7-F183-47EB-9858-734ACDDE58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D67F22-EBE3-4E04-9E54-E1C60E6D0E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C93D12-2488-47AD-B30E-B3979D1FB5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CE7D73-84E7-4CAF-90A0-DE4C4FAB52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358232-4BCA-4CD1-A1F4-D638D11C3D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64A17F-43D6-4C76-8C1E-218A8694FC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EB3818-0934-47E8-A6A5-511924F0B5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5EB843-7BD1-4828-8972-1DB90E688B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1D6282-55F0-4100-8D0E-C378FCCA68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5EB84-F73F-4A06-B31C-0B44CF7E2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E2D1DB-01D1-4A2A-900D-9709049AF8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693F54-8234-4296-8F23-A98AD075E9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86B26C-9EC9-4631-9D22-41A0C126AE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E12D08-59D2-4E5A-B958-D13F3B72A1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200E19-87D5-4D39-BD29-EBD9F4E31E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0E1F4C-08C9-4506-AF66-68DD8E4A28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30D729-AFC3-4634-B3C3-72108D866C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398D14-24D3-41C9-9136-4303C3F95E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1BC5C8-56DC-48A0-804A-29089FAD25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CBE3FC-E44B-412F-A1D1-0B6B0BA775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18D2B-E24F-48EB-B2AF-19C546864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00C610-D379-4F00-97A4-9F6DBA6B15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E4ED64-4EB7-4971-9952-0B17E468B0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037BE7-2222-44C0-B3DF-A4CC056A8B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403060-4DE6-430E-BCF0-5C17C514F7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6108E1-4E9C-4523-9D4B-9F6ED7AA9B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85FC91-6C66-47E8-9AE8-94F2E026F6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2A49FA-1C16-43EE-B32F-26764EEDA9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3E39787-F6C3-460B-A486-3FAD47C702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F0793A-CB1C-4088-AAE4-AAB880D3E0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CA62F6-DA62-4DCB-AD5B-26E65F409C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AC838-4B85-4BB9-ABA6-AB2CCAEF2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3A01D3-82FF-4CB9-90EE-8FC170F6F0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0D9ADD-BB88-4081-A573-B3EBEFDFBD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B46A83-C94B-47C2-B95C-54FD691136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3B5433-6739-467D-9F03-4D0F658714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EDA6E2-98CE-4EC9-9554-4864410C58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242928-3F6D-42BD-88A9-7E377A600F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57D793-E1CA-42A9-B9EA-FD9F8EC084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14B4F0-BF89-47C8-93AD-C4E69C3804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3C9CDDF-625C-471A-839E-A5FD86D823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443C6F-D239-4741-B64C-722E02A87C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9D1A9-10EB-4609-8EFD-CF9C01A99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0C2749-474D-47A6-A850-76F0B92EBE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273AEC-0323-4BA3-8751-489E0E83E9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95D21E-7AA7-4B4C-8705-73805CEA05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E9B885-927F-43F8-B2F2-B99D430351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656C9D-DA96-4E6D-A11A-E237A65B81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6F6750-5CBA-4AA5-A993-CE6081B892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CBA00F-CDD9-4AC3-8914-768EA39EAE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808C34-99AE-48EB-BE56-B1A2693B84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66FD64-28D4-4860-B77E-36FAE7AFD7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8DB016-BA59-4A6E-8C7D-837CAFCC44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68BC0-71BE-4759-967D-E437DDBD5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F4AF897-A8AD-4487-83E0-769D264B4A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1B4AEA1-A967-44C7-A47D-3B4C3BB00E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FC61F2-FF1F-4760-9DD5-1B2E1839C7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02777A9-FD6F-4149-9252-C7EEB153257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2"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BEACA2-95CD-4C27-B7BB-169FD2FDE2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08336A-3305-431F-ACE9-6BC9D5F626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FD4753-1485-4180-9BC8-423FD03D00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B1BCE0-3200-4BFE-9822-BB9CA6F74A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DE3AF2-0576-4842-ACEA-8973C0B238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7BF37C-B407-47BD-AB7B-54D3625152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E531F-9647-46C4-9855-0F4A0E6D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E2418-AFD5-4622-B6B6-27EC7875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9DA496-DCBC-4D16-94CB-A398FEA623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EC0883-20E4-4E27-9555-3419CC03AA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7B8AC3-DBE4-4446-9E2D-769348115E5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A58D147-085F-460B-8AEE-5DAC62D839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1E7951-F02B-4DE5-A3BA-E437C4AAB92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DFF6607-4477-4AB1-B3B3-B706A5F4FA5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8"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B3B73D-92E4-4039-92AE-B4BD986B9E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D5E1F47-25D2-4025-A62E-51B860DCA2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211E4B-3284-4627-8413-08326A8885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3AC491-2AC6-4D1B-8580-31DCFB8458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86FA6-2B82-4259-8E65-912A73E9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7A1A0C-1011-433D-A025-817E8F92A40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68D5F1-0536-4A32-9EC2-208B47297A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8FBD41-8B24-4606-8DB9-49298B296F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9188CF-A88A-40C0-8173-80599F2289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F2D817-4A45-4802-A33D-3A1A817AE8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CFC858-8DBF-476C-817D-650E9FD0AD9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236A43C-C774-4EBB-81B0-A913A7CE2B7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CA36C4B-19AC-43FA-ADB5-A5A9BE60D09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C919C56-CF97-436D-BA6F-73762E4BFB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4C53FB-21C3-41D1-AE26-B5F7AEA720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DFE60-B26E-4153-8F34-EF3FE3D6F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D5038BA-A04F-4FCC-882E-35B7223D2A8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65BE28-1290-4088-AD00-FDB2170FC64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CE5F9A-839C-47FD-A81F-9500806C74E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435878-F88E-445F-940B-5C97CD3B93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33DAE5F-076F-4F23-A2D7-051A6DBD46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73E475-D4C7-484B-A633-D89CD5286E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2B7A5B-D7FE-459C-BFF1-1755C69AEC8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A49AF0F-DCA9-4306-BA6B-C42E481A47F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3020B4C-FD9D-4449-A7FF-086663FCF5A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12E97B7-8BE4-4089-A3BE-C102C3E2F2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EF9B6-BBFA-423F-A0A4-29B7E6096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061523C-AAEB-4EA5-96F6-48463229A8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F928C5-5564-4C3D-BD62-58972D6AD6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34F86C-7DA1-45E5-AC39-D371D77D06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8AC0D3B-6A76-4E7F-8A5E-EF354B0F01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CFA921-4B07-49ED-AA0C-6C48EC4F1F9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B96236A-49A4-4F2C-844F-B591075FDDA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464AA1-FE8A-4599-A400-58C82C19A9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82CCDB-DF01-42B9-B3E7-55B63F2FCD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F6A472-D6B0-4C8F-9B24-AB1039E7E6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F6314E5-7BB1-40DD-A0F9-4A77004953B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6F68D-5D3A-4788-9CCA-10D49088A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FE9BA00-33B8-4574-9497-A8F1D44CA0A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2B30147-F162-4ABA-B508-4C1F6EA0527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83B5F9-3FBB-4CE1-B96F-7ABFF83321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A950022-53A0-4EDB-9153-284311B32C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1DCB86-368A-424B-82BE-53228F75B93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305AFE-D0E2-4F41-9870-843E1DE6C0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2DC05D6-5640-4584-8D11-6DE4FD1720C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7CAEC5-96A5-4978-B418-464050A112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0E9F6D-52EB-4351-A06A-5F73AD8267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619114-2254-47B7-9588-29A374727B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4F64C-B895-4840-B729-E72254E3C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481410-A501-44E8-85FD-1E50EF8014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104F3B8-D82C-4D9C-B834-F2A16415070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18C60DB-8445-4D78-AF01-44FF58B62B3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0F7562E-7648-4EA2-8820-16A81D84036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BA5544-D92C-41EF-A2C7-2B1E7A1C905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C15E6F7-1C55-43C7-B0AD-3B7B8181D0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8199827-FDD0-4954-B5AF-AFD7B232D1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DCF2078-D981-4A3B-B241-57ECB658D77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35376B-4151-4071-A110-6112D6F07C5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4ADC95-F47F-4F3F-AB35-560A6AB4A1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CAB7C-5468-46FC-8C3D-7DDF2B24A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02A8C82-2BC2-4EA9-AE23-76EE9C9E19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53C39F-5044-4D18-AF26-DD4BE2C6343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598AC06-E26D-4B2B-8459-CDD7B4F21FA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0F9B540-2086-482F-B724-792A1A4AFD7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0072B1A-6380-4B40-83DC-7D375E1EE9E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F5623C5-A7BB-4674-BDA0-02D4A8AB035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5613E01-7B82-4441-B5CD-336F722AEC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133D87E-7635-4E49-A715-C67BC65B66E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C6EBAD3-0021-4132-B54A-CC23B67F0B1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3A4C68F-7161-4A6C-BBBA-10049A5C5D9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70976-7ECB-4195-99D9-089BAA836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33C2D7-33F0-46A8-B423-E376404058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49F7E1-3283-4E02-9726-A689348497E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C7E2A7A-C510-40A5-BEED-C3B2CB1BBF1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D108C56-AD12-4566-9621-F8464CE863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7E9DB82-8065-4624-90BD-CCC2162A39A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8724531-48C3-4165-883B-EC6FAA5261C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4E5E525-BA68-4611-AB28-B7B77CBAFF9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6D13A36-39A8-4A6D-83A6-4564E294C86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412DAFF-F927-4FE3-93B5-F80DB6F589B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D77A9E-EB81-491E-BD98-FCA345450B5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DC386-B9F2-421B-9ABC-51F86D9B6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82ECEE4-5BF3-4355-9077-4ED0AA1A76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91A5BC7-713E-4C74-8F98-4353C605373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B91A899-5DC6-4378-9669-D9CCBC2F202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E789B0-3121-4793-81C4-7B40972EE8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CE74E0-2429-4B04-AF7F-20E7889772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08FF2C5-47EE-4CC4-BBC5-7B20D9D35F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973C964-9F73-46E0-A1B7-45B22E1C52F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038CD66-87F0-4234-9AB8-0161046E826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B9FE8B2-49A8-4C9F-871F-7D4839D38C5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FEA6A53-9D59-470F-B382-D04F740FF3F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ECA5B-B4CC-46FB-B9C8-8F58DFCA7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EE47E33-2271-42BC-8210-9E4E3B5EB72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F488ED8-4E1C-41D8-9DAE-5F1854A5290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48E7B0B-2CAF-45B0-8BA0-C2D02A98A73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5072D86-F37B-4CAF-969B-289D487A317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DDA80A5-4CB5-4C9D-95B4-E162590F68B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540CC4-868B-4A0D-84E7-B40E38CD138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F2F303-6FAC-4D3C-A43B-99692A89BF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2A03DE5-DCA2-4C73-9975-858A2410A0F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23C1B91-D9D4-41FB-9BB0-F4A1A363665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0B1A5F6-C43D-4AF7-A1C4-C5A08FCF8C2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E992-9A78-47D3-AEB6-18857C7B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E381B-0AA1-425A-8481-97AEDDAED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CFB5309-55CC-4F40-AD82-1A4995043CD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CD2C1C3-D5D2-4C4E-BD47-E81128846AA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917E2FE-D052-4217-A0B5-6B80246EE34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059DDBB-D6A0-43BB-8197-971C696DB4C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3487AB9-3267-43CB-89B9-9B100D41418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D4DB06E-F8B8-417E-8D18-C77CF4DEC95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97FB52C-E88E-464F-89B3-AEDEA3BE97E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539DA6A-A16A-4319-94C7-6CC1A99CE27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600F8F-450D-41B6-A946-7A3041E6865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052E37-3429-4E9D-8B85-CD7FC7A3459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19358-6438-4690-BFE0-E43B226E6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201D213-6745-4774-BD9D-71C05D5877A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2915708-5D8F-42F8-B6B0-B7847A1C631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9FEEB67-3FD7-4B45-BE77-22C1C0E86DB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57C2BAB-678B-4D54-91F1-732B04C21E3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81B2851-8CD3-4497-83D2-15C03D82D2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3ACDBD2-BA6C-4C1E-BCE0-F2B07F5A512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241A526-6D6B-4C7D-BCD7-954C52E0667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BB10372-4E56-4700-9A21-DA39810C787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D08DE35-0DC2-4976-BA83-82B6D4EC3F4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9BF97D-63E7-4677-A612-FFBB9E538EE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2072D-DBE0-4415-9360-CA5DB90AC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4044F7-B035-46D1-884C-FA0AE36B60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2CAB52-E93D-4780-A622-A237872B0A6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359C531-7514-40B5-9530-E7FA2FDB06D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A011726-B933-447E-8C5F-69FE43D9487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5C2392B-8520-40EB-92C5-5D813304837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73394CD-8C7F-4939-B6A1-4296163B4FB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04FDF46-DED9-4B3E-B773-B7027F15318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8CAF529-BE9F-4ECD-B6CC-CF5405C784B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214AFFC-A2A7-47C6-A44E-C4A0E53E033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A33A75E-2F48-40D9-B452-98106792AC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31298-8FB2-4057-AF65-66190D94D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2F78D2F-F1C1-449C-B32C-171C39C6615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9BCC57-CA3A-4018-8566-917C3A20CDB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B430DC8-3403-4C95-A15F-638629E2B6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6D2C526-A681-40DA-920A-BFD3E29D90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849F608-C098-4CF9-82CE-2BA6C1E86C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75E0B86-B039-4D26-B9B8-0004D134B4F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372C2A0-58A4-49E2-BF9B-8E9C5A6BB98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B4AF90B-41B9-4CA0-ADEB-E08CB44692A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BB2D1D2-C4D3-4DB9-8233-32CD5743386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A100BDD-A416-4C88-9079-025A242E78B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06102-7CB6-40F5-A4F6-61E01C920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0B3FB55-69AF-4400-A996-82E13F36243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B0F0C4D-094D-4747-BA47-5361DF0FEF7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FE626A4-A852-4A33-940F-8EA0B43287C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3D02FB0-9B5E-44EE-BF6D-D519B7C299C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097929E-EA8C-4F8B-928F-EF0A17B6BEC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4B04700-6646-4215-8136-40028A3FE76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7B81316-433A-4D74-91AA-3BEBD1B2B7D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3258936-3E74-49B9-B243-F1568B35803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971D712-21C4-4176-9D2D-E5B6DD62135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2A963DD-53FB-41BF-82D3-31A30751977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FB00F5-664B-4A4A-BA57-DFD43AFAC2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2145B0A-B5D8-4AE1-8B83-E8923EA3310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C66C66A-89F8-4A84-AC60-CAB00AD0768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853C109-FA77-456F-A7E5-F4DD5E74AEF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3C30423-F426-498B-993A-42E1147AB2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4CD0680-6D9A-4EAE-B74F-B1E65756A0B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747ACCE-AE7D-46E0-BECD-1444F29C93B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2F857F0-E47A-4B8C-B5EE-8CC2BBF8D31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9472FA8-CD55-46A0-A1C3-046A488DB26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109B097-8384-4BD2-9FBD-5248E9617AF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9BB87D1-70B2-425A-872F-43A85F09FD3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589AC-9326-441C-BA8B-265E426BD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6521EE2-E423-4F32-8298-BF6ACC93559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905D47C-2298-4513-8007-59FE5182CDE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E446052-19C7-452D-9E9E-A947F1FFCC0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FA4F84B-E390-4B97-8304-62A81D178AB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C35AF1F-3B4A-41F8-9B26-7E9DA88224D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6B18385-78C0-4AA2-A874-46964EBD64D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A271874-64F3-48F2-8C19-68E611E51A7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0E6041D-397D-4610-94F0-415CD70A001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F323B29-8D7A-42C0-8025-BFFC1AA4EAA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EBD3849-DF3A-4ACD-B546-D0FB4A76358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63147-1D06-4AB9-A61A-8E1508AF91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28E7137-7AE2-40CF-90B8-E1238F16579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011F418-A990-4613-8703-79071187A8D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2A04099-D8DF-413C-BFB1-BA10CB8ECCD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DB9AB18-08C2-44D7-943C-D1B8F27E1E9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A044517-8ABB-48AC-ADB1-7CC298BFF95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5BB629B-57E5-4276-A1F0-8DA5BC49741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1D84C88-29E3-4A58-98C1-181A75B7A6D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79503E8-15B4-4B5B-A60A-850F9102001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E65A6DF-B65F-403A-91E6-92D57746B5F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D4431F-5F15-441F-B5AE-8FF9E7DACCC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FC954-AB96-4681-9677-8ADFF454D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43B4D94-C3DC-4F79-B0C4-DFDB3E87F1B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B03C406-9916-485B-B28A-041ACB6E095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33E309E-88E1-4F3A-A67F-D5ACAAE1345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7299322-855E-4780-A921-A6C5FDC6459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25924A0-949D-445B-9BC6-AF8F1741DE4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CC005-3732-41D8-8633-AE89AF3AF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9A07-D3C3-45C2-BF5C-B2AC55B7F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DDE75-AC66-4834-944C-841D32525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70375-607B-4927-B3DC-5F64218A9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A3AC3-832A-46D0-9425-3861AE8F0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787AF-9B07-4347-B32E-89FA0EC43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94D56-7CF7-4A9F-B173-4F7266434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5C73C-A480-47F2-B5BC-DD1039F52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013E9-D897-4B10-B24F-F19A8587F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AC9B5C-68D9-4A94-988A-2ED0B6A545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4C008A-C565-4BA0-8889-34C7F4683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B1F967-32EC-4E3E-B317-406CBA72C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4FE7-066F-4CC6-B113-CCF97B896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3D44B-93D7-4E16-8F99-BF964282E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EBC19-C7E1-453B-BF7F-EAC77DD3B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8274F-C15E-4BB4-B855-045D36832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2BE1D-0428-44A2-AA2C-3C4810799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9D2AE-2E53-4E7D-82AF-D99D54917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176EC-5B85-42C8-A8CE-816932113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3E4AD-D792-499F-AD19-5C72E3736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79328-AE15-446F-BBAF-7CCF2182C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32412-F89E-4901-9D44-BB4C241B7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4F5279-0FE9-492D-9C3A-B7EF03C55E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DE23-DF11-405A-B69B-DD6302DE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3B8CB7-0525-4338-AEA9-889327E5C7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67EB1E-CB35-4CEC-8409-800D69343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8CB84-9F70-46C6-912C-87A39444E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C7835-94D2-4973-A592-E5760AE44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2D77E-DA61-4533-B0FF-A0C02CAC8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EC20FB-CAC9-458D-B781-BC0C59FA3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FFC0B7-51E7-49C2-BB41-5E17D6BD9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F73D0-2376-4383-B47E-D20C14FB2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CEF5F-9732-4CBF-A903-5BDC23707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F3EB8-BC61-4F83-A13A-49D1E2324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B380-6D0D-479E-A82D-897BFD76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23A52-D072-4B9E-8412-C263B5CAC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383085-A446-4890-A48E-E4475E4901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BCDB5-E62F-455D-B84E-E75DC5F3C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D0BA7-787E-4D37-AEC5-86F9F94A06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D2CA7-6BD6-4BA4-9BD6-981DCE9A6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4C06D-CC06-450F-B39A-A755B0A270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728E88-CA97-4EFE-94C9-3343D36AC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9B4E8-C582-4782-B15A-E8D23B2E2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EA8585-032A-4334-9FED-59F15447E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FF0CA-2E55-4081-8C43-1FAE2E1D8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E771-6804-45F6-B07E-69F6AED4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E2B56-F64B-41D6-94E4-32E78A3CA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804F7-D814-4ECB-8603-C394CC857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0BD80-9CBF-4893-A231-081DF672F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CF37BB-E955-4AB6-938B-707B5D8B84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8DB385-F341-4C69-89F0-6B25E5CA46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168204-5B16-45D1-88ED-E892A4F482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F3A26-5AF2-4D30-8F10-E4F2E7546A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2D989-2991-4D94-9DA6-C0CEF3C7F6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15473-555E-42B0-B03B-7D26ACAFF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AC182F-A366-4A78-B271-C3C37B5BC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4BB7-B1E2-4E96-BCB9-B79CA139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9DD0D-FFCE-4E7B-AC9A-CF60D0D61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E1B97-CCCC-4F44-915A-03632AC4D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27BC8-23A0-4054-BFA2-C57E45FBD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8F3A3-CEAE-46AD-8296-1BFC38FEC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373E5-A759-42D3-8831-D35C48A4B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3CCE29-2A94-4550-BA4A-66016DB88F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BD452E-DCE1-4DAB-953E-433F6CB6E6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723A10-2F87-4FA5-877E-F8FA8D4ED4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93631C-5955-4A7E-9264-BB9B2D33A5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8411F3-182C-433E-8510-7D25284917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D1F10-725F-45D1-803D-11DB896F834D}"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58B30-E35E-4086-A5FD-561E7666705D}"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6"/>
          <p:cNvSpPr/>
          <p:nvPr/>
        </p:nvSpPr>
        <p:spPr>
          <a:xfrm>
            <a:off x="1768320" y="716040"/>
            <a:ext cx="7374240" cy="54547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1"/>
          <p:cNvSpPr/>
          <p:nvPr/>
        </p:nvSpPr>
        <p:spPr>
          <a:xfrm>
            <a:off x="1768320" y="602604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0" name="PlaceHolder 3"/>
          <p:cNvSpPr>
            <a:spLocks noGrp="1"/>
          </p:cNvSpPr>
          <p:nvPr>
            <p:ph type="dt" idx="2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A6365-66F1-49EC-85FF-100BBEE822F8}"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431" name="PlaceHolder 4"/>
          <p:cNvSpPr>
            <a:spLocks noGrp="1"/>
          </p:cNvSpPr>
          <p:nvPr>
            <p:ph type="ftr" idx="2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PlaceHolder 5"/>
          <p:cNvSpPr>
            <a:spLocks noGrp="1"/>
          </p:cNvSpPr>
          <p:nvPr>
            <p:ph type="sldNum" idx="30"/>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95FFD-2E25-4505-A110-21C4BDE5A95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Rectangle 6"/>
          <p:cNvSpPr/>
          <p:nvPr/>
        </p:nvSpPr>
        <p:spPr>
          <a:xfrm>
            <a:off x="1768320" y="716040"/>
            <a:ext cx="388620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Rectangle 7"/>
          <p:cNvSpPr/>
          <p:nvPr/>
        </p:nvSpPr>
        <p:spPr>
          <a:xfrm>
            <a:off x="5746680" y="711360"/>
            <a:ext cx="339732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8"/>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Rectangle 12"/>
          <p:cNvSpPr/>
          <p:nvPr/>
        </p:nvSpPr>
        <p:spPr>
          <a:xfrm>
            <a:off x="8993160" y="71136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8" name="PlaceHolder 3"/>
          <p:cNvSpPr>
            <a:spLocks noGrp="1"/>
          </p:cNvSpPr>
          <p:nvPr>
            <p:ph type="dt" idx="3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3EADB-4F70-4A23-A5E6-80630AE9BE2D}"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479" name="PlaceHolder 4"/>
          <p:cNvSpPr>
            <a:spLocks noGrp="1"/>
          </p:cNvSpPr>
          <p:nvPr>
            <p:ph type="ftr" idx="3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PlaceHolder 5"/>
          <p:cNvSpPr>
            <a:spLocks noGrp="1"/>
          </p:cNvSpPr>
          <p:nvPr>
            <p:ph type="sldNum" idx="33"/>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43E46-883B-4C0B-8843-266EF4BF463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7" name="Rectangle 6"/>
          <p:cNvSpPr/>
          <p:nvPr/>
        </p:nvSpPr>
        <p:spPr>
          <a:xfrm>
            <a:off x="1768320" y="716040"/>
            <a:ext cx="388620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Rectangle 11"/>
          <p:cNvSpPr/>
          <p:nvPr/>
        </p:nvSpPr>
        <p:spPr>
          <a:xfrm>
            <a:off x="8993160" y="71136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5" name="PlaceHolder 3"/>
          <p:cNvSpPr>
            <a:spLocks noGrp="1"/>
          </p:cNvSpPr>
          <p:nvPr>
            <p:ph type="dt" idx="3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435F4-438F-4BE8-8C92-549156EF6AA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26" name="PlaceHolder 4"/>
          <p:cNvSpPr>
            <a:spLocks noGrp="1"/>
          </p:cNvSpPr>
          <p:nvPr>
            <p:ph type="ftr" idx="3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6"/>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5691E-5B16-4887-939E-A6C7C002B7BA}"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Rectangle 6"/>
          <p:cNvSpPr/>
          <p:nvPr/>
        </p:nvSpPr>
        <p:spPr>
          <a:xfrm>
            <a:off x="3503520" y="711360"/>
            <a:ext cx="387216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Rectangle 7"/>
          <p:cNvSpPr/>
          <p:nvPr/>
        </p:nvSpPr>
        <p:spPr>
          <a:xfrm>
            <a:off x="7467480" y="71136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Rectangle 8"/>
          <p:cNvSpPr/>
          <p:nvPr/>
        </p:nvSpPr>
        <p:spPr>
          <a:xfrm>
            <a:off x="7577280" y="817560"/>
            <a:ext cx="16164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Rectangle 9"/>
          <p:cNvSpPr/>
          <p:nvPr/>
        </p:nvSpPr>
        <p:spPr>
          <a:xfrm>
            <a:off x="7577280" y="100800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Rectangle 10"/>
          <p:cNvSpPr/>
          <p:nvPr/>
        </p:nvSpPr>
        <p:spPr>
          <a:xfrm>
            <a:off x="7577280" y="1198440"/>
            <a:ext cx="161640" cy="16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Rectangle 11"/>
          <p:cNvSpPr/>
          <p:nvPr/>
        </p:nvSpPr>
        <p:spPr>
          <a:xfrm>
            <a:off x="0" y="711360"/>
            <a:ext cx="150840" cy="545292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2" name="PlaceHolder 3"/>
          <p:cNvSpPr>
            <a:spLocks noGrp="1"/>
          </p:cNvSpPr>
          <p:nvPr>
            <p:ph type="dt" idx="3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FC6B6-5FF9-4983-916D-70C4ABBEB64B}"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73" name="PlaceHolder 4"/>
          <p:cNvSpPr>
            <a:spLocks noGrp="1"/>
          </p:cNvSpPr>
          <p:nvPr>
            <p:ph type="ftr" idx="3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PlaceHolder 5"/>
          <p:cNvSpPr>
            <a:spLocks noGrp="1"/>
          </p:cNvSpPr>
          <p:nvPr>
            <p:ph type="sldNum" idx="39"/>
          </p:nvPr>
        </p:nvSpPr>
        <p:spPr>
          <a:xfrm>
            <a:off x="7621560" y="54464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8460F-511B-47EB-9AC9-DABFADF67A19}"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6"/>
          <p:cNvSpPr/>
          <p:nvPr/>
        </p:nvSpPr>
        <p:spPr>
          <a:xfrm>
            <a:off x="5092560" y="716040"/>
            <a:ext cx="405144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2"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Rectangle 11"/>
          <p:cNvSpPr/>
          <p:nvPr/>
        </p:nvSpPr>
        <p:spPr>
          <a:xfrm>
            <a:off x="8993160" y="71604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9" name="PlaceHolder 3"/>
          <p:cNvSpPr>
            <a:spLocks noGrp="1"/>
          </p:cNvSpPr>
          <p:nvPr>
            <p:ph type="dt" idx="40"/>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B4448-7C14-4752-A015-F8133A825941}"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620" name="PlaceHolder 4"/>
          <p:cNvSpPr>
            <a:spLocks noGrp="1"/>
          </p:cNvSpPr>
          <p:nvPr>
            <p:ph type="ftr" idx="41"/>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1" name="PlaceHolder 5"/>
          <p:cNvSpPr>
            <a:spLocks noGrp="1"/>
          </p:cNvSpPr>
          <p:nvPr>
            <p:ph type="sldNum" idx="42"/>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4B631-4321-4774-B5F4-A17B9569993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Rectangle 6"/>
          <p:cNvSpPr/>
          <p:nvPr/>
        </p:nvSpPr>
        <p:spPr>
          <a:xfrm>
            <a:off x="1768320" y="716040"/>
            <a:ext cx="7375680" cy="1704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9"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3" name="Rectangle 11"/>
          <p:cNvSpPr/>
          <p:nvPr/>
        </p:nvSpPr>
        <p:spPr>
          <a:xfrm>
            <a:off x="1768320" y="6026040"/>
            <a:ext cx="7388280" cy="15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6" name="PlaceHolder 3"/>
          <p:cNvSpPr>
            <a:spLocks noGrp="1"/>
          </p:cNvSpPr>
          <p:nvPr>
            <p:ph type="dt" idx="4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1CD8D-19EB-47A3-BD9D-1A3CDC296B44}"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667" name="PlaceHolder 4"/>
          <p:cNvSpPr>
            <a:spLocks noGrp="1"/>
          </p:cNvSpPr>
          <p:nvPr>
            <p:ph type="ftr" idx="44"/>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8" name="PlaceHolder 5"/>
          <p:cNvSpPr>
            <a:spLocks noGrp="1"/>
          </p:cNvSpPr>
          <p:nvPr>
            <p:ph type="sldNum" idx="45"/>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47C34-DF1C-4A54-80E7-1EE46F7EAB74}"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Rectangle 6"/>
          <p:cNvSpPr/>
          <p:nvPr/>
        </p:nvSpPr>
        <p:spPr>
          <a:xfrm>
            <a:off x="1768320" y="712800"/>
            <a:ext cx="7375680" cy="3546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6" name="Rectangle 7"/>
          <p:cNvSpPr/>
          <p:nvPr/>
        </p:nvSpPr>
        <p:spPr>
          <a:xfrm>
            <a:off x="0" y="716040"/>
            <a:ext cx="1676520" cy="354312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9"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2" name="PlaceHolder 3"/>
          <p:cNvSpPr>
            <a:spLocks noGrp="1"/>
          </p:cNvSpPr>
          <p:nvPr>
            <p:ph type="dt" idx="4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D878D-C63C-4A12-A306-37753468CDC2}"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713" name="PlaceHolder 4"/>
          <p:cNvSpPr>
            <a:spLocks noGrp="1"/>
          </p:cNvSpPr>
          <p:nvPr>
            <p:ph type="ftr" idx="4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4" name="PlaceHolder 5"/>
          <p:cNvSpPr>
            <a:spLocks noGrp="1"/>
          </p:cNvSpPr>
          <p:nvPr>
            <p:ph type="sldNum" idx="48"/>
          </p:nvPr>
        </p:nvSpPr>
        <p:spPr>
          <a:xfrm>
            <a:off x="347400" y="35413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3FAF8-8121-4717-A9CE-64AD873A41FF}"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1" name="Rectangle 6"/>
          <p:cNvSpPr/>
          <p:nvPr/>
        </p:nvSpPr>
        <p:spPr>
          <a:xfrm>
            <a:off x="1768320" y="2562120"/>
            <a:ext cx="7375680" cy="17478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2"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58" name="PlaceHolder 3"/>
          <p:cNvSpPr>
            <a:spLocks noGrp="1"/>
          </p:cNvSpPr>
          <p:nvPr>
            <p:ph type="dt" idx="4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91C09-E57E-48D1-BC2D-103006431466}"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759" name="PlaceHolder 4"/>
          <p:cNvSpPr>
            <a:spLocks noGrp="1"/>
          </p:cNvSpPr>
          <p:nvPr>
            <p:ph type="ftr" idx="5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0" name="PlaceHolder 5"/>
          <p:cNvSpPr>
            <a:spLocks noGrp="1"/>
          </p:cNvSpPr>
          <p:nvPr>
            <p:ph type="sldNum" idx="51"/>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43B2E-FAD6-4B14-B0AC-4ACFA7449F13}"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7"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0"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1"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4" name="PlaceHolder 3"/>
          <p:cNvSpPr>
            <a:spLocks noGrp="1"/>
          </p:cNvSpPr>
          <p:nvPr>
            <p:ph type="dt" idx="5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20190-D3F1-4211-B3FF-6648E85ECF7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05" name="PlaceHolder 4"/>
          <p:cNvSpPr>
            <a:spLocks noGrp="1"/>
          </p:cNvSpPr>
          <p:nvPr>
            <p:ph type="ftr" idx="5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6" name="PlaceHolder 5"/>
          <p:cNvSpPr>
            <a:spLocks noGrp="1"/>
          </p:cNvSpPr>
          <p:nvPr>
            <p:ph type="sldNum" idx="54"/>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D4C06-F36D-4339-B3AD-31136D7817D5}"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3"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4"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5"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6"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7"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0" name="PlaceHolder 3"/>
          <p:cNvSpPr>
            <a:spLocks noGrp="1"/>
          </p:cNvSpPr>
          <p:nvPr>
            <p:ph type="dt" idx="55"/>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8C366-BFAA-48B7-8246-02B18818165B}"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51" name="PlaceHolder 4"/>
          <p:cNvSpPr>
            <a:spLocks noGrp="1"/>
          </p:cNvSpPr>
          <p:nvPr>
            <p:ph type="ftr" idx="56"/>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PlaceHolder 5"/>
          <p:cNvSpPr>
            <a:spLocks noGrp="1"/>
          </p:cNvSpPr>
          <p:nvPr>
            <p:ph type="sldNum" idx="57"/>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542EF-2A75-47F5-89C1-89CEE5412DDC}"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768320" y="4351320"/>
            <a:ext cx="7375680" cy="1812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Rectangle 7"/>
          <p:cNvSpPr/>
          <p:nvPr/>
        </p:nvSpPr>
        <p:spPr>
          <a:xfrm>
            <a:off x="1768320" y="712800"/>
            <a:ext cx="7375680" cy="3546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tangle 8"/>
          <p:cNvSpPr/>
          <p:nvPr/>
        </p:nvSpPr>
        <p:spPr>
          <a:xfrm>
            <a:off x="0" y="712800"/>
            <a:ext cx="1676520" cy="35463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2"/>
          <p:cNvSpPr/>
          <p:nvPr/>
        </p:nvSpPr>
        <p:spPr>
          <a:xfrm>
            <a:off x="8993160" y="4351320"/>
            <a:ext cx="150840" cy="181296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3"/>
          <p:cNvSpPr/>
          <p:nvPr/>
        </p:nvSpPr>
        <p:spPr>
          <a:xfrm>
            <a:off x="8993160" y="711360"/>
            <a:ext cx="150840" cy="354780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1" name="PlaceHolder 3"/>
          <p:cNvSpPr>
            <a:spLocks noGrp="1"/>
          </p:cNvSpPr>
          <p:nvPr>
            <p:ph type="dt" idx="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CE127-597B-424F-9080-6086F634ACD7}"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53880" y="3541320"/>
            <a:ext cx="116856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E7266-4778-4113-907F-8CA55049FEEC}"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9"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0"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1"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2"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3"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6" name="PlaceHolder 3"/>
          <p:cNvSpPr>
            <a:spLocks noGrp="1"/>
          </p:cNvSpPr>
          <p:nvPr>
            <p:ph type="dt" idx="5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3FB84-373B-4E87-B393-1FBF73697B0B}"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97" name="PlaceHolder 4"/>
          <p:cNvSpPr>
            <a:spLocks noGrp="1"/>
          </p:cNvSpPr>
          <p:nvPr>
            <p:ph type="ftr" idx="5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8" name="PlaceHolder 5"/>
          <p:cNvSpPr>
            <a:spLocks noGrp="1"/>
          </p:cNvSpPr>
          <p:nvPr>
            <p:ph type="sldNum" idx="60"/>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5749E-993D-43C2-8E48-1A689D0CFF91}"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5" name="Rectangle 6"/>
          <p:cNvSpPr/>
          <p:nvPr/>
        </p:nvSpPr>
        <p:spPr>
          <a:xfrm>
            <a:off x="5086440" y="4468680"/>
            <a:ext cx="390672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6"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7"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8"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9"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0" name="Rectangle 11"/>
          <p:cNvSpPr/>
          <p:nvPr/>
        </p:nvSpPr>
        <p:spPr>
          <a:xfrm>
            <a:off x="8993160" y="4468680"/>
            <a:ext cx="150840" cy="169560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43" name="PlaceHolder 3"/>
          <p:cNvSpPr>
            <a:spLocks noGrp="1"/>
          </p:cNvSpPr>
          <p:nvPr>
            <p:ph type="dt" idx="6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D33C2-425D-40A8-A002-435836F97411}"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944" name="PlaceHolder 4"/>
          <p:cNvSpPr>
            <a:spLocks noGrp="1"/>
          </p:cNvSpPr>
          <p:nvPr>
            <p:ph type="ftr" idx="6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5" name="PlaceHolder 5"/>
          <p:cNvSpPr>
            <a:spLocks noGrp="1"/>
          </p:cNvSpPr>
          <p:nvPr>
            <p:ph type="sldNum" idx="63"/>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2611A-C287-4570-942C-A49DE88D2410}"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2" name="Rectangle 6"/>
          <p:cNvSpPr/>
          <p:nvPr/>
        </p:nvSpPr>
        <p:spPr>
          <a:xfrm>
            <a:off x="5089680" y="706320"/>
            <a:ext cx="4054320" cy="1711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3"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4"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5"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6"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7" name="Rectangle 11"/>
          <p:cNvSpPr/>
          <p:nvPr/>
        </p:nvSpPr>
        <p:spPr>
          <a:xfrm>
            <a:off x="8993160" y="703440"/>
            <a:ext cx="150840" cy="17143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0" name="PlaceHolder 3"/>
          <p:cNvSpPr>
            <a:spLocks noGrp="1"/>
          </p:cNvSpPr>
          <p:nvPr>
            <p:ph type="dt" idx="6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DE61-5A48-4053-A6D6-6249AD297FB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991" name="PlaceHolder 4"/>
          <p:cNvSpPr>
            <a:spLocks noGrp="1"/>
          </p:cNvSpPr>
          <p:nvPr>
            <p:ph type="ftr" idx="6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BF838-F133-463C-8893-AFAC76CDA40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Rectangle 6"/>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0" name="Rectangle 7"/>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1" name="Rectangle 8"/>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2" name="Rectangle 9"/>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35" name="PlaceHolder 3"/>
          <p:cNvSpPr>
            <a:spLocks noGrp="1"/>
          </p:cNvSpPr>
          <p:nvPr>
            <p:ph type="dt" idx="6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B4779-431B-4C6E-9B35-0D016445464F}"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36" name="PlaceHolder 4"/>
          <p:cNvSpPr>
            <a:spLocks noGrp="1"/>
          </p:cNvSpPr>
          <p:nvPr>
            <p:ph type="ftr" idx="6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7" name="PlaceHolder 5"/>
          <p:cNvSpPr>
            <a:spLocks noGrp="1"/>
          </p:cNvSpPr>
          <p:nvPr>
            <p:ph type="sldNum" idx="69"/>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E2B27-8C2A-4730-84E7-E1175A21E70C}"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4" name="Rectangle 6"/>
          <p:cNvSpPr/>
          <p:nvPr/>
        </p:nvSpPr>
        <p:spPr>
          <a:xfrm>
            <a:off x="1768320" y="2509920"/>
            <a:ext cx="7388280" cy="3511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5"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7"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8"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9" name="Rectangle 11"/>
          <p:cNvSpPr/>
          <p:nvPr/>
        </p:nvSpPr>
        <p:spPr>
          <a:xfrm>
            <a:off x="1768320" y="602136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82" name="PlaceHolder 3"/>
          <p:cNvSpPr>
            <a:spLocks noGrp="1"/>
          </p:cNvSpPr>
          <p:nvPr>
            <p:ph type="dt" idx="70"/>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5D7F4-4A99-4A17-85FA-DBBCCD693F98}"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83" name="PlaceHolder 4"/>
          <p:cNvSpPr>
            <a:spLocks noGrp="1"/>
          </p:cNvSpPr>
          <p:nvPr>
            <p:ph type="ftr" idx="71"/>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4" name="PlaceHolder 5"/>
          <p:cNvSpPr>
            <a:spLocks noGrp="1"/>
          </p:cNvSpPr>
          <p:nvPr>
            <p:ph type="sldNum" idx="72"/>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765B1-790B-49A0-A670-D0E1BC835279}"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1" name="Rectangle 6"/>
          <p:cNvSpPr/>
          <p:nvPr/>
        </p:nvSpPr>
        <p:spPr>
          <a:xfrm>
            <a:off x="1768320" y="2509920"/>
            <a:ext cx="73882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2"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6" name="Rectangle 11"/>
          <p:cNvSpPr/>
          <p:nvPr/>
        </p:nvSpPr>
        <p:spPr>
          <a:xfrm>
            <a:off x="1768320" y="602604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29" name="PlaceHolder 3"/>
          <p:cNvSpPr>
            <a:spLocks noGrp="1"/>
          </p:cNvSpPr>
          <p:nvPr>
            <p:ph type="dt" idx="7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55FE-7635-406A-80DC-31B96656A38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130" name="PlaceHolder 4"/>
          <p:cNvSpPr>
            <a:spLocks noGrp="1"/>
          </p:cNvSpPr>
          <p:nvPr>
            <p:ph type="ftr" idx="74"/>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1" name="PlaceHolder 5"/>
          <p:cNvSpPr>
            <a:spLocks noGrp="1"/>
          </p:cNvSpPr>
          <p:nvPr>
            <p:ph type="sldNum" idx="75"/>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F34D7-CD03-42D3-8594-6CDE5FC7606A}"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8" name="Rectangle 6"/>
          <p:cNvSpPr/>
          <p:nvPr/>
        </p:nvSpPr>
        <p:spPr>
          <a:xfrm>
            <a:off x="1768320" y="2511360"/>
            <a:ext cx="7375680" cy="36608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9"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3" name="Rectangle 11"/>
          <p:cNvSpPr/>
          <p:nvPr/>
        </p:nvSpPr>
        <p:spPr>
          <a:xfrm>
            <a:off x="1768320" y="602136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76" name="PlaceHolder 3"/>
          <p:cNvSpPr>
            <a:spLocks noGrp="1"/>
          </p:cNvSpPr>
          <p:nvPr>
            <p:ph type="dt" idx="7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5469E-5DBC-4141-8B7E-EAACCB5F4985}"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177" name="PlaceHolder 4"/>
          <p:cNvSpPr>
            <a:spLocks noGrp="1"/>
          </p:cNvSpPr>
          <p:nvPr>
            <p:ph type="ftr" idx="7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8" name="PlaceHolder 5"/>
          <p:cNvSpPr>
            <a:spLocks noGrp="1"/>
          </p:cNvSpPr>
          <p:nvPr>
            <p:ph type="sldNum" idx="78"/>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B5010-6239-43D6-B376-36378968C1C2}"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5" name="Rectangle 6"/>
          <p:cNvSpPr/>
          <p:nvPr/>
        </p:nvSpPr>
        <p:spPr>
          <a:xfrm>
            <a:off x="5499000" y="2509920"/>
            <a:ext cx="3645000" cy="3662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6" name="Rectangle 7"/>
          <p:cNvSpPr/>
          <p:nvPr/>
        </p:nvSpPr>
        <p:spPr>
          <a:xfrm>
            <a:off x="1768320" y="2509920"/>
            <a:ext cx="3638880" cy="3662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7"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8"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9"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0"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1" name="Rectangle 12"/>
          <p:cNvSpPr/>
          <p:nvPr/>
        </p:nvSpPr>
        <p:spPr>
          <a:xfrm>
            <a:off x="1768320" y="6021360"/>
            <a:ext cx="36388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2" name="Rectangle 13"/>
          <p:cNvSpPr/>
          <p:nvPr/>
        </p:nvSpPr>
        <p:spPr>
          <a:xfrm>
            <a:off x="5499000" y="6021360"/>
            <a:ext cx="3649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25" name="PlaceHolder 3"/>
          <p:cNvSpPr>
            <a:spLocks noGrp="1"/>
          </p:cNvSpPr>
          <p:nvPr>
            <p:ph type="dt" idx="7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64A1-B2D1-4320-95C9-DBB15A2FBD56}"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226" name="PlaceHolder 4"/>
          <p:cNvSpPr>
            <a:spLocks noGrp="1"/>
          </p:cNvSpPr>
          <p:nvPr>
            <p:ph type="ftr" idx="8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36F48-7114-45DD-800E-466708D87A41}"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Rectangle 6"/>
          <p:cNvSpPr/>
          <p:nvPr/>
        </p:nvSpPr>
        <p:spPr>
          <a:xfrm>
            <a:off x="6735600" y="2509920"/>
            <a:ext cx="240840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5" name="Rectangle 7"/>
          <p:cNvSpPr/>
          <p:nvPr/>
        </p:nvSpPr>
        <p:spPr>
          <a:xfrm>
            <a:off x="4251240" y="2509920"/>
            <a:ext cx="239256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6" name="Rectangle 8"/>
          <p:cNvSpPr/>
          <p:nvPr/>
        </p:nvSpPr>
        <p:spPr>
          <a:xfrm>
            <a:off x="1768320" y="2509920"/>
            <a:ext cx="238932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7" name="Rectangle 9"/>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8" name="Rectangle 10"/>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9" name="Rectangle 11"/>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0" name="Rectangle 12"/>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1" name="Rectangle 13"/>
          <p:cNvSpPr/>
          <p:nvPr/>
        </p:nvSpPr>
        <p:spPr>
          <a:xfrm>
            <a:off x="1768320" y="6006960"/>
            <a:ext cx="238932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2" name="Rectangle 14"/>
          <p:cNvSpPr/>
          <p:nvPr/>
        </p:nvSpPr>
        <p:spPr>
          <a:xfrm>
            <a:off x="4251240" y="6006960"/>
            <a:ext cx="239256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3" name="Rectangle 15"/>
          <p:cNvSpPr/>
          <p:nvPr/>
        </p:nvSpPr>
        <p:spPr>
          <a:xfrm>
            <a:off x="6732720" y="6006960"/>
            <a:ext cx="24112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6" name="PlaceHolder 3"/>
          <p:cNvSpPr>
            <a:spLocks noGrp="1"/>
          </p:cNvSpPr>
          <p:nvPr>
            <p:ph type="dt" idx="8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0EBC1-0940-45DC-8480-C0AF6AA6864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277" name="PlaceHolder 4"/>
          <p:cNvSpPr>
            <a:spLocks noGrp="1"/>
          </p:cNvSpPr>
          <p:nvPr>
            <p:ph type="ftr" idx="8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8" name="PlaceHolder 5"/>
          <p:cNvSpPr>
            <a:spLocks noGrp="1"/>
          </p:cNvSpPr>
          <p:nvPr>
            <p:ph type="sldNum" idx="84"/>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77C96-5956-4C57-9941-91DFFD756DF1}"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5" name="Rectangle 6"/>
          <p:cNvSpPr/>
          <p:nvPr/>
        </p:nvSpPr>
        <p:spPr>
          <a:xfrm>
            <a:off x="4397400" y="3479760"/>
            <a:ext cx="4746600" cy="26877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6" name="Rectangle 7"/>
          <p:cNvSpPr/>
          <p:nvPr/>
        </p:nvSpPr>
        <p:spPr>
          <a:xfrm>
            <a:off x="4397400" y="716040"/>
            <a:ext cx="4746600" cy="2665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7" name="Rectangle 8"/>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8"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9"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0"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3" name="PlaceHolder 3"/>
          <p:cNvSpPr>
            <a:spLocks noGrp="1"/>
          </p:cNvSpPr>
          <p:nvPr>
            <p:ph type="dt" idx="85"/>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3583D-FD73-4A08-8154-7BCBFCCD95D6}"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324" name="PlaceHolder 4"/>
          <p:cNvSpPr>
            <a:spLocks noGrp="1"/>
          </p:cNvSpPr>
          <p:nvPr>
            <p:ph type="ftr" idx="86"/>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5" name="PlaceHolder 5"/>
          <p:cNvSpPr>
            <a:spLocks noGrp="1"/>
          </p:cNvSpPr>
          <p:nvPr>
            <p:ph type="sldNum" idx="87"/>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E163E-F20F-4BD1-A54D-3481CFEDC764}"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6"/>
          <p:cNvSpPr/>
          <p:nvPr/>
        </p:nvSpPr>
        <p:spPr>
          <a:xfrm>
            <a:off x="1768320" y="716040"/>
            <a:ext cx="7374240" cy="1700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7"/>
          <p:cNvSpPr/>
          <p:nvPr/>
        </p:nvSpPr>
        <p:spPr>
          <a:xfrm>
            <a:off x="1768320" y="2509920"/>
            <a:ext cx="7375680" cy="3654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ectangle 12"/>
          <p:cNvSpPr/>
          <p:nvPr/>
        </p:nvSpPr>
        <p:spPr>
          <a:xfrm>
            <a:off x="1768320" y="6026040"/>
            <a:ext cx="73882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 name="PlaceHolder 3"/>
          <p:cNvSpPr>
            <a:spLocks noGrp="1"/>
          </p:cNvSpPr>
          <p:nvPr>
            <p:ph type="dt" idx="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BC47D-9F7B-4A42-B70A-E9788A8AF607}"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353880" y="1699920"/>
            <a:ext cx="116856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9A02B-0F08-4B56-9F15-A2A711BEE458}"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2" name="Rectangle 6"/>
          <p:cNvSpPr/>
          <p:nvPr/>
        </p:nvSpPr>
        <p:spPr>
          <a:xfrm>
            <a:off x="3749760" y="4408560"/>
            <a:ext cx="5394240" cy="17557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3" name="Rectangle 7"/>
          <p:cNvSpPr/>
          <p:nvPr/>
        </p:nvSpPr>
        <p:spPr>
          <a:xfrm>
            <a:off x="3749760" y="2573280"/>
            <a:ext cx="5394240" cy="17445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4" name="Rectangle 8"/>
          <p:cNvSpPr/>
          <p:nvPr/>
        </p:nvSpPr>
        <p:spPr>
          <a:xfrm>
            <a:off x="3749760" y="711360"/>
            <a:ext cx="5394240" cy="1760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9"/>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6" name="Rectangle 10"/>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7" name="Rectangle 11"/>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8" name="Rectangle 12"/>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71" name="PlaceHolder 3"/>
          <p:cNvSpPr>
            <a:spLocks noGrp="1"/>
          </p:cNvSpPr>
          <p:nvPr>
            <p:ph type="dt" idx="8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99782-B1D7-4CF6-8B90-239041810DD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372" name="PlaceHolder 4"/>
          <p:cNvSpPr>
            <a:spLocks noGrp="1"/>
          </p:cNvSpPr>
          <p:nvPr>
            <p:ph type="ftr" idx="8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3" name="PlaceHolder 5"/>
          <p:cNvSpPr>
            <a:spLocks noGrp="1"/>
          </p:cNvSpPr>
          <p:nvPr>
            <p:ph type="sldNum" idx="90"/>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0BC97-E297-4804-987F-44295C7BF2EC}"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0" name="Rectangle 6"/>
          <p:cNvSpPr/>
          <p:nvPr/>
        </p:nvSpPr>
        <p:spPr>
          <a:xfrm>
            <a:off x="1768320" y="2509920"/>
            <a:ext cx="7375680" cy="36687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1" name="Rectangle 7"/>
          <p:cNvSpPr/>
          <p:nvPr/>
        </p:nvSpPr>
        <p:spPr>
          <a:xfrm>
            <a:off x="1768320" y="711360"/>
            <a:ext cx="7375680" cy="1706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6" name="Rectangle 12"/>
          <p:cNvSpPr/>
          <p:nvPr/>
        </p:nvSpPr>
        <p:spPr>
          <a:xfrm>
            <a:off x="1768320" y="6026040"/>
            <a:ext cx="73756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19" name="PlaceHolder 3"/>
          <p:cNvSpPr>
            <a:spLocks noGrp="1"/>
          </p:cNvSpPr>
          <p:nvPr>
            <p:ph type="dt" idx="9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4B661-2154-4602-B6AC-8AA3806E71CD}"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20" name="PlaceHolder 4"/>
          <p:cNvSpPr>
            <a:spLocks noGrp="1"/>
          </p:cNvSpPr>
          <p:nvPr>
            <p:ph type="ftr" idx="9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1" name="PlaceHolder 5"/>
          <p:cNvSpPr>
            <a:spLocks noGrp="1"/>
          </p:cNvSpPr>
          <p:nvPr>
            <p:ph type="sldNum" idx="93"/>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A9BAF-DEDC-4503-897C-9E71A07E561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8" name="Rectangle 6"/>
          <p:cNvSpPr/>
          <p:nvPr/>
        </p:nvSpPr>
        <p:spPr>
          <a:xfrm>
            <a:off x="1768320" y="716040"/>
            <a:ext cx="7375680" cy="5448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Rectangle 7"/>
          <p:cNvSpPr/>
          <p:nvPr/>
        </p:nvSpPr>
        <p:spPr>
          <a:xfrm>
            <a:off x="0" y="716040"/>
            <a:ext cx="167652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3" name="Rectangle 11"/>
          <p:cNvSpPr/>
          <p:nvPr/>
        </p:nvSpPr>
        <p:spPr>
          <a:xfrm>
            <a:off x="8993160" y="71604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66" name="PlaceHolder 3"/>
          <p:cNvSpPr>
            <a:spLocks noGrp="1"/>
          </p:cNvSpPr>
          <p:nvPr>
            <p:ph type="dt" idx="9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D3CBA-5511-45C0-99E0-D4DE477EDCEE}"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67" name="PlaceHolder 4"/>
          <p:cNvSpPr>
            <a:spLocks noGrp="1"/>
          </p:cNvSpPr>
          <p:nvPr>
            <p:ph type="ftr" idx="9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8" name="PlaceHolder 5"/>
          <p:cNvSpPr>
            <a:spLocks noGrp="1"/>
          </p:cNvSpPr>
          <p:nvPr>
            <p:ph type="sldNum" idx="96"/>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A3616-2618-404D-B0F0-0152113E221F}"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711360"/>
            <a:ext cx="7367760" cy="17031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7"/>
          <p:cNvSpPr/>
          <p:nvPr/>
        </p:nvSpPr>
        <p:spPr>
          <a:xfrm>
            <a:off x="0" y="2505240"/>
            <a:ext cx="7367760" cy="36590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ectangle 8"/>
          <p:cNvSpPr/>
          <p:nvPr/>
        </p:nvSpPr>
        <p:spPr>
          <a:xfrm>
            <a:off x="7459560" y="71136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561440" y="816120"/>
            <a:ext cx="161640" cy="16164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7561440" y="100656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Rectangle 11"/>
          <p:cNvSpPr/>
          <p:nvPr/>
        </p:nvSpPr>
        <p:spPr>
          <a:xfrm>
            <a:off x="7561440" y="1198440"/>
            <a:ext cx="161640" cy="16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Rectangle 12"/>
          <p:cNvSpPr/>
          <p:nvPr/>
        </p:nvSpPr>
        <p:spPr>
          <a:xfrm>
            <a:off x="0" y="6026040"/>
            <a:ext cx="736776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7" name="PlaceHolder 3"/>
          <p:cNvSpPr>
            <a:spLocks noGrp="1"/>
          </p:cNvSpPr>
          <p:nvPr>
            <p:ph type="dt" idx="10"/>
          </p:nvPr>
        </p:nvSpPr>
        <p:spPr>
          <a:xfrm>
            <a:off x="580392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1338A-57DE-4F03-A5C6-3D01653BDEB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112680" y="6265800"/>
            <a:ext cx="5626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7613640" y="16952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EBA05-F5DC-4710-853F-E555E4D8A4FA}"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6"/>
          <p:cNvSpPr/>
          <p:nvPr/>
        </p:nvSpPr>
        <p:spPr>
          <a:xfrm>
            <a:off x="4605480" y="712800"/>
            <a:ext cx="4538520" cy="54608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ectangle 7"/>
          <p:cNvSpPr/>
          <p:nvPr/>
        </p:nvSpPr>
        <p:spPr>
          <a:xfrm>
            <a:off x="0" y="716040"/>
            <a:ext cx="4514760" cy="545760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Rectangle 8"/>
          <p:cNvSpPr/>
          <p:nvPr/>
        </p:nvSpPr>
        <p:spPr>
          <a:xfrm>
            <a:off x="42242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9"/>
          <p:cNvSpPr/>
          <p:nvPr/>
        </p:nvSpPr>
        <p:spPr>
          <a:xfrm>
            <a:off x="42242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Rectangle 10"/>
          <p:cNvSpPr/>
          <p:nvPr/>
        </p:nvSpPr>
        <p:spPr>
          <a:xfrm>
            <a:off x="42242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3" name="PlaceHolder 3"/>
          <p:cNvSpPr>
            <a:spLocks noGrp="1"/>
          </p:cNvSpPr>
          <p:nvPr>
            <p:ph type="dt" idx="1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351E2-E1D6-403F-A241-381EBC5AF011}"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94" name="PlaceHolder 4"/>
          <p:cNvSpPr>
            <a:spLocks noGrp="1"/>
          </p:cNvSpPr>
          <p:nvPr>
            <p:ph type="ftr" idx="14"/>
          </p:nvPr>
        </p:nvSpPr>
        <p:spPr>
          <a:xfrm>
            <a:off x="112680" y="6265800"/>
            <a:ext cx="4402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3190680" y="544968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D3768-7EE8-4598-8A63-04136D451FAD}"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Rectangle 6"/>
          <p:cNvSpPr/>
          <p:nvPr/>
        </p:nvSpPr>
        <p:spPr>
          <a:xfrm>
            <a:off x="1768320" y="712800"/>
            <a:ext cx="7375680" cy="1704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7"/>
          <p:cNvSpPr/>
          <p:nvPr/>
        </p:nvSpPr>
        <p:spPr>
          <a:xfrm>
            <a:off x="1768320" y="2509920"/>
            <a:ext cx="73756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Rectangle 12"/>
          <p:cNvSpPr/>
          <p:nvPr/>
        </p:nvSpPr>
        <p:spPr>
          <a:xfrm>
            <a:off x="1768320" y="602604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1" name="PlaceHolder 3"/>
          <p:cNvSpPr>
            <a:spLocks noGrp="1"/>
          </p:cNvSpPr>
          <p:nvPr>
            <p:ph type="dt" idx="1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AC292-B63A-4676-B8EE-6F684FACD00C}"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D10B7-6FA8-447D-9A51-95476EB7492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Rectangle 6"/>
          <p:cNvSpPr/>
          <p:nvPr/>
        </p:nvSpPr>
        <p:spPr>
          <a:xfrm>
            <a:off x="1768320" y="712800"/>
            <a:ext cx="7375680" cy="1706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Rectangle 7"/>
          <p:cNvSpPr/>
          <p:nvPr/>
        </p:nvSpPr>
        <p:spPr>
          <a:xfrm>
            <a:off x="1768320" y="2509920"/>
            <a:ext cx="73756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Rectangle 12"/>
          <p:cNvSpPr/>
          <p:nvPr/>
        </p:nvSpPr>
        <p:spPr>
          <a:xfrm>
            <a:off x="1768320" y="602604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9" name="PlaceHolder 3"/>
          <p:cNvSpPr>
            <a:spLocks noGrp="1"/>
          </p:cNvSpPr>
          <p:nvPr>
            <p:ph type="dt" idx="1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0C590-3EBF-481E-AFC8-7C9503E3772F}"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290" name="PlaceHolder 4"/>
          <p:cNvSpPr>
            <a:spLocks noGrp="1"/>
          </p:cNvSpPr>
          <p:nvPr>
            <p:ph type="ftr" idx="2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5"/>
          <p:cNvSpPr>
            <a:spLocks noGrp="1"/>
          </p:cNvSpPr>
          <p:nvPr>
            <p:ph type="sldNum" idx="21"/>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01E30-CD88-4A4B-9BD5-B5FE2015B268}"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6"/>
          <p:cNvSpPr/>
          <p:nvPr/>
        </p:nvSpPr>
        <p:spPr>
          <a:xfrm>
            <a:off x="1768320" y="716040"/>
            <a:ext cx="737568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11"/>
          <p:cNvSpPr/>
          <p:nvPr/>
        </p:nvSpPr>
        <p:spPr>
          <a:xfrm>
            <a:off x="8993160" y="71136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PlaceHolder 3"/>
          <p:cNvSpPr>
            <a:spLocks noGrp="1"/>
          </p:cNvSpPr>
          <p:nvPr>
            <p:ph type="dt" idx="2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6123D-3898-4F5F-BDE8-3EB1D3AD435C}"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45306-3491-42A6-B819-4D8444521CA1}"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Rectangle 6"/>
          <p:cNvSpPr/>
          <p:nvPr/>
        </p:nvSpPr>
        <p:spPr>
          <a:xfrm>
            <a:off x="7459560" y="716040"/>
            <a:ext cx="168444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Rectangle 7"/>
          <p:cNvSpPr/>
          <p:nvPr/>
        </p:nvSpPr>
        <p:spPr>
          <a:xfrm>
            <a:off x="0" y="711360"/>
            <a:ext cx="7367760" cy="54529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Rectangle 8"/>
          <p:cNvSpPr/>
          <p:nvPr/>
        </p:nvSpPr>
        <p:spPr>
          <a:xfrm>
            <a:off x="7577280" y="820800"/>
            <a:ext cx="16164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Rectangle 9"/>
          <p:cNvSpPr/>
          <p:nvPr/>
        </p:nvSpPr>
        <p:spPr>
          <a:xfrm>
            <a:off x="7577280" y="101124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Rectangle 10"/>
          <p:cNvSpPr/>
          <p:nvPr/>
        </p:nvSpPr>
        <p:spPr>
          <a:xfrm>
            <a:off x="7577280" y="1203480"/>
            <a:ext cx="16164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Rectangle 11"/>
          <p:cNvSpPr/>
          <p:nvPr/>
        </p:nvSpPr>
        <p:spPr>
          <a:xfrm>
            <a:off x="0" y="71136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3" name="PlaceHolder 3"/>
          <p:cNvSpPr>
            <a:spLocks noGrp="1"/>
          </p:cNvSpPr>
          <p:nvPr>
            <p:ph type="dt" idx="25"/>
          </p:nvPr>
        </p:nvSpPr>
        <p:spPr>
          <a:xfrm>
            <a:off x="580392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98E32-D36B-4781-8A67-597992C29B36}"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84" name="PlaceHolder 4"/>
          <p:cNvSpPr>
            <a:spLocks noGrp="1"/>
          </p:cNvSpPr>
          <p:nvPr>
            <p:ph type="ftr" idx="26"/>
          </p:nvPr>
        </p:nvSpPr>
        <p:spPr>
          <a:xfrm>
            <a:off x="112680" y="6265800"/>
            <a:ext cx="5626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5"/>
          <p:cNvSpPr>
            <a:spLocks noGrp="1"/>
          </p:cNvSpPr>
          <p:nvPr>
            <p:ph type="sldNum" idx="27"/>
          </p:nvPr>
        </p:nvSpPr>
        <p:spPr>
          <a:xfrm>
            <a:off x="7613640" y="54464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A4CC2-BEFB-43F0-A504-B85D49511816}"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751280" y="2509560"/>
            <a:ext cx="4098960" cy="231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riting the IB Economics Exam</a:t>
            </a:r>
            <a:endParaRPr b="0" lang="en-US" sz="3200" spc="-1" strike="noStrike">
              <a:solidFill>
                <a:srgbClr val="000000"/>
              </a:solidFill>
              <a:latin typeface="Arial"/>
            </a:endParaRPr>
          </a:p>
        </p:txBody>
      </p:sp>
      <p:sp>
        <p:nvSpPr>
          <p:cNvPr id="1506" name="PlaceHolder 2"/>
          <p:cNvSpPr>
            <a:spLocks noGrp="1"/>
          </p:cNvSpPr>
          <p:nvPr>
            <p:ph type="subTitle"/>
          </p:nvPr>
        </p:nvSpPr>
        <p:spPr>
          <a:xfrm>
            <a:off x="4751280" y="2894400"/>
            <a:ext cx="4098960" cy="4663800"/>
          </a:xfrm>
          <a:prstGeom prst="rect">
            <a:avLst/>
          </a:prstGeom>
          <a:noFill/>
          <a:ln w="0">
            <a:noFill/>
          </a:ln>
        </p:spPr>
        <p:txBody>
          <a:bodyPr lIns="0" rIns="0" tIns="0" bIns="0" anchor="t">
            <a:noAutofit/>
          </a:bodyPr>
          <a:p>
            <a:pPr marL="104036760" indent="0" algn="ctr">
              <a:spcBef>
                <a:spcPts val="499"/>
              </a:spcBef>
              <a:spcAft>
                <a:spcPts val="601"/>
              </a:spcAft>
              <a:buNone/>
              <a:tabLst>
                <a:tab algn="l" pos="0"/>
              </a:tabLst>
            </a:pPr>
            <a:endParaRPr b="0" lang="en-US" sz="1800" spc="-1" strike="noStrike">
              <a:solidFill>
                <a:srgbClr val="000000"/>
              </a:solidFill>
              <a:latin typeface="Arial"/>
            </a:endParaRPr>
          </a:p>
        </p:txBody>
      </p:sp>
      <p:pic>
        <p:nvPicPr>
          <p:cNvPr id="1507" name="Content Placeholder 8" descr="iStock_000006016620Small-1.jpg"/>
          <p:cNvPicPr/>
          <p:nvPr/>
        </p:nvPicPr>
        <p:blipFill>
          <a:blip r:embed="rId2"/>
          <a:srcRect l="-32457" t="0" r="-32457" b="0"/>
          <a:stretch/>
        </p:blipFill>
        <p:spPr>
          <a:xfrm>
            <a:off x="0" y="3327480"/>
            <a:ext cx="342900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7567200" y="919080"/>
            <a:ext cx="1282680" cy="5037120"/>
          </a:xfrm>
          <a:prstGeom prst="rect">
            <a:avLst/>
          </a:prstGeom>
          <a:noFill/>
          <a:ln w="0">
            <a:noFill/>
          </a:ln>
        </p:spPr>
        <p:txBody>
          <a:bodyPr anchor="t" anchorCtr="1" vert="eaVe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mand Terms</a:t>
            </a:r>
            <a:endParaRPr b="0" lang="en-US" sz="3200" spc="-1" strike="noStrike">
              <a:solidFill>
                <a:srgbClr val="000000"/>
              </a:solidFill>
              <a:latin typeface="Arial"/>
            </a:endParaRPr>
          </a:p>
        </p:txBody>
      </p:sp>
      <p:sp>
        <p:nvSpPr>
          <p:cNvPr id="1532" name="PlaceHolder 2"/>
          <p:cNvSpPr>
            <a:spLocks noGrp="1"/>
          </p:cNvSpPr>
          <p:nvPr>
            <p:ph/>
          </p:nvPr>
        </p:nvSpPr>
        <p:spPr>
          <a:xfrm>
            <a:off x="1913040" y="919080"/>
            <a:ext cx="5564160" cy="5037120"/>
          </a:xfrm>
          <a:prstGeom prst="rect">
            <a:avLst/>
          </a:prstGeom>
          <a:noFill/>
          <a:ln w="0">
            <a:noFill/>
          </a:ln>
        </p:spPr>
        <p:txBody>
          <a:bodyPr lIns="90000" rIns="90000" tIns="46800" bIns="46800" anchor="t" vert="eaVe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533" name="Content Placeholder 5" descr=""/>
          <p:cNvPicPr/>
          <p:nvPr/>
        </p:nvPicPr>
        <p:blipFill>
          <a:blip r:embed="rId2"/>
          <a:stretch/>
        </p:blipFill>
        <p:spPr>
          <a:xfrm>
            <a:off x="1932120" y="378000"/>
            <a:ext cx="5632200" cy="62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35" name=""/>
          <p:cNvSpPr txBox="1"/>
          <p:nvPr/>
        </p:nvSpPr>
        <p:spPr>
          <a:xfrm>
            <a:off x="1913040" y="2612520"/>
            <a:ext cx="6937200" cy="3310200"/>
          </a:xfrm>
          <a:prstGeom prst="rect">
            <a:avLst/>
          </a:prstGeom>
          <a:solidFill>
            <a:srgbClr val="ffffff"/>
          </a:solidFill>
          <a:ln w="0">
            <a:noFill/>
          </a:ln>
        </p:spPr>
        <p:txBody>
          <a:bodyPr anchor="t">
            <a:normAutofit fontScale="67000"/>
          </a:bodyPr>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C</a:t>
            </a:r>
            <a:r>
              <a:rPr b="0" lang="en-US" sz="1500" spc="-1" strike="noStrike">
                <a:solidFill>
                  <a:srgbClr val="191919"/>
                </a:solidFill>
                <a:latin typeface="Arial"/>
              </a:rPr>
              <a:t>auses and/or Consequence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R</a:t>
            </a:r>
            <a:r>
              <a:rPr b="0" lang="en-US" sz="1500" spc="-1" strike="noStrike">
                <a:solidFill>
                  <a:srgbClr val="191919"/>
                </a:solidFill>
                <a:latin typeface="Arial"/>
              </a:rPr>
              <a:t>eliability and Validity of Data</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A</a:t>
            </a:r>
            <a:r>
              <a:rPr b="0" lang="en-US" sz="1500" spc="-1" strike="noStrike">
                <a:solidFill>
                  <a:srgbClr val="191919"/>
                </a:solidFill>
                <a:latin typeface="Arial"/>
              </a:rPr>
              <a:t>lternative Explanation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M</a:t>
            </a:r>
            <a:r>
              <a:rPr b="0" lang="en-US" sz="1500" spc="-1" strike="noStrike">
                <a:solidFill>
                  <a:srgbClr val="191919"/>
                </a:solidFill>
                <a:latin typeface="Arial"/>
              </a:rPr>
              <a:t>acroeconomic goal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P</a:t>
            </a:r>
            <a:r>
              <a:rPr b="0" lang="en-US" sz="1500" spc="-1" strike="noStrike">
                <a:solidFill>
                  <a:srgbClr val="191919"/>
                </a:solidFill>
                <a:latin typeface="Arial"/>
              </a:rPr>
              <a:t>ros and Cons/Advantages and Disadvantage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S</a:t>
            </a:r>
            <a:r>
              <a:rPr b="0" lang="en-US" sz="1500" spc="-1" strike="noStrike">
                <a:solidFill>
                  <a:srgbClr val="191919"/>
                </a:solidFill>
                <a:latin typeface="Arial"/>
              </a:rPr>
              <a:t>hort and Long Term</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S</a:t>
            </a:r>
            <a:r>
              <a:rPr b="0" lang="en-US" sz="1500" spc="-1" strike="noStrike">
                <a:solidFill>
                  <a:srgbClr val="191919"/>
                </a:solidFill>
                <a:latin typeface="Arial"/>
              </a:rPr>
              <a:t>takeholder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p:txBody>
      </p:sp>
      <p:pic>
        <p:nvPicPr>
          <p:cNvPr id="1536"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38" name=""/>
          <p:cNvSpPr txBox="1"/>
          <p:nvPr/>
        </p:nvSpPr>
        <p:spPr>
          <a:xfrm>
            <a:off x="1913040" y="2612520"/>
            <a:ext cx="6937200" cy="3310200"/>
          </a:xfrm>
          <a:prstGeom prst="rect">
            <a:avLst/>
          </a:prstGeom>
          <a:solidFill>
            <a:srgbClr val="ffffff"/>
          </a:solidFill>
          <a:ln w="0">
            <a:noFill/>
          </a:ln>
        </p:spPr>
        <p:txBody>
          <a:bodyPr anchor="t">
            <a:normAutofit fontScale="70000"/>
          </a:bodyPr>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C</a:t>
            </a:r>
            <a:r>
              <a:rPr b="0" lang="en-US" sz="1800" spc="-1" strike="noStrike">
                <a:solidFill>
                  <a:srgbClr val="191919"/>
                </a:solidFill>
                <a:latin typeface="Arial"/>
              </a:rPr>
              <a:t>auses and/or Consequences</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Identify and explaining which is the most important and why.</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R</a:t>
            </a:r>
            <a:r>
              <a:rPr b="0" lang="en-US" sz="1800" spc="-1" strike="noStrike">
                <a:solidFill>
                  <a:srgbClr val="191919"/>
                </a:solidFill>
                <a:latin typeface="Arial"/>
              </a:rPr>
              <a:t>eliability and Validity of Data</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Identify any possible issues with the reliability and validity of the data. </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A</a:t>
            </a:r>
            <a:r>
              <a:rPr b="0" lang="en-US" sz="1800" spc="-1" strike="noStrike">
                <a:solidFill>
                  <a:srgbClr val="191919"/>
                </a:solidFill>
                <a:latin typeface="Arial"/>
              </a:rPr>
              <a:t>lternative Explanations</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Would all economist agree with a particular theory? How have they challenged this theory and how valid are their arguments? </a:t>
            </a:r>
            <a:r>
              <a:rPr b="0" lang="en-US" sz="1800" spc="-1" strike="noStrike">
                <a:solidFill>
                  <a:srgbClr val="404040"/>
                </a:solidFill>
                <a:latin typeface="Arial"/>
              </a:rPr>
              <a:t>Identify what happens in reality as opposed to the model.</a:t>
            </a:r>
            <a:endParaRPr b="0" lang="en-US" sz="1800" spc="-1" strike="noStrike">
              <a:solidFill>
                <a:srgbClr val="000000"/>
              </a:solidFill>
              <a:latin typeface="Arial"/>
            </a:endParaRPr>
          </a:p>
        </p:txBody>
      </p:sp>
      <p:pic>
        <p:nvPicPr>
          <p:cNvPr id="1539"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41" name=""/>
          <p:cNvSpPr txBox="1"/>
          <p:nvPr/>
        </p:nvSpPr>
        <p:spPr>
          <a:xfrm>
            <a:off x="1913040" y="2612520"/>
            <a:ext cx="6937200" cy="3310200"/>
          </a:xfrm>
          <a:prstGeom prst="rect">
            <a:avLst/>
          </a:prstGeom>
          <a:solidFill>
            <a:srgbClr val="ffffff"/>
          </a:solidFill>
          <a:ln w="0">
            <a:noFill/>
          </a:ln>
        </p:spPr>
        <p:txBody>
          <a:bodyPr anchor="t">
            <a:normAutofit fontScale="79000"/>
          </a:bodyPr>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91919"/>
                </a:solidFill>
                <a:latin typeface="Arial"/>
              </a:rPr>
              <a:t>M</a:t>
            </a:r>
            <a:r>
              <a:rPr b="0" lang="en-US" sz="2000" spc="-1" strike="noStrike">
                <a:solidFill>
                  <a:srgbClr val="191919"/>
                </a:solidFill>
                <a:latin typeface="Arial"/>
              </a:rPr>
              <a:t>acroeconomic goals</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1919"/>
                </a:solidFill>
                <a:latin typeface="Arial"/>
              </a:rPr>
              <a:t>	</a:t>
            </a:r>
            <a:r>
              <a:rPr b="0" lang="en-US" sz="2000" spc="-1" strike="noStrike">
                <a:solidFill>
                  <a:srgbClr val="191919"/>
                </a:solidFill>
                <a:latin typeface="Arial"/>
              </a:rPr>
              <a:t>To what extent will a particular policy achieve the  macroeconomic goals of high employment, low inflation, high economic growth and balance of payments equilibrium.</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91919"/>
                </a:solidFill>
                <a:latin typeface="Arial"/>
              </a:rPr>
              <a:t>P</a:t>
            </a:r>
            <a:r>
              <a:rPr b="0" lang="en-US" sz="2000" spc="-1" strike="noStrike">
                <a:solidFill>
                  <a:srgbClr val="191919"/>
                </a:solidFill>
                <a:latin typeface="Arial"/>
              </a:rPr>
              <a:t>ros and Cons/Advantages and Disadvantages</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1919"/>
                </a:solidFill>
                <a:latin typeface="Arial"/>
              </a:rPr>
              <a:t>	</a:t>
            </a:r>
            <a:r>
              <a:rPr b="0" lang="en-US" sz="2000" spc="-1" strike="noStrike">
                <a:solidFill>
                  <a:srgbClr val="191919"/>
                </a:solidFill>
                <a:latin typeface="Arial"/>
              </a:rPr>
              <a:t>Identify both sides and reach a judgment about which </a:t>
            </a:r>
            <a:r>
              <a:rPr b="0" lang="en-US" sz="2000" spc="-1" strike="noStrike">
                <a:solidFill>
                  <a:srgbClr val="000000"/>
                </a:solidFill>
                <a:latin typeface="Arial"/>
                <a:ea typeface="ＭＳ Ｐゴシック"/>
              </a:rPr>
              <a:t>which side outweighs the other</a:t>
            </a:r>
            <a:endParaRPr b="0" lang="en-US" sz="2000" spc="-1" strike="noStrike">
              <a:solidFill>
                <a:srgbClr val="000000"/>
              </a:solidFill>
              <a:latin typeface="Arial"/>
            </a:endParaRPr>
          </a:p>
        </p:txBody>
      </p:sp>
      <p:pic>
        <p:nvPicPr>
          <p:cNvPr id="1542"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44" name=""/>
          <p:cNvSpPr txBox="1"/>
          <p:nvPr/>
        </p:nvSpPr>
        <p:spPr>
          <a:xfrm>
            <a:off x="1913040" y="2612520"/>
            <a:ext cx="6937200" cy="3310200"/>
          </a:xfrm>
          <a:prstGeom prst="rect">
            <a:avLst/>
          </a:prstGeom>
          <a:solidFill>
            <a:srgbClr val="ffffff"/>
          </a:solidFill>
          <a:ln w="0">
            <a:noFill/>
          </a:ln>
        </p:spPr>
        <p:txBody>
          <a:bodyPr anchor="t">
            <a:normAutofit fontScale="86000"/>
          </a:bodyPr>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191919"/>
                </a:solidFill>
                <a:latin typeface="Arial"/>
              </a:rPr>
              <a:t>S</a:t>
            </a:r>
            <a:r>
              <a:rPr b="0" lang="en-US" sz="2200" spc="-1" strike="noStrike">
                <a:solidFill>
                  <a:srgbClr val="191919"/>
                </a:solidFill>
                <a:latin typeface="Arial"/>
              </a:rPr>
              <a:t>hort and Long Term</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1919"/>
                </a:solidFill>
                <a:latin typeface="Arial"/>
              </a:rPr>
              <a:t>	</a:t>
            </a:r>
            <a:r>
              <a:rPr b="0" lang="en-US" sz="2200" spc="-1" strike="noStrike">
                <a:solidFill>
                  <a:srgbClr val="191919"/>
                </a:solidFill>
                <a:latin typeface="Arial"/>
              </a:rPr>
              <a:t>Identified the short and long term causes or consequences</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191919"/>
                </a:solidFill>
                <a:latin typeface="Arial"/>
              </a:rPr>
              <a:t>S</a:t>
            </a:r>
            <a:r>
              <a:rPr b="0" lang="en-US" sz="2200" spc="-1" strike="noStrike">
                <a:solidFill>
                  <a:srgbClr val="191919"/>
                </a:solidFill>
                <a:latin typeface="Arial"/>
              </a:rPr>
              <a:t>takeholders</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1919"/>
                </a:solidFill>
                <a:latin typeface="Arial"/>
              </a:rPr>
              <a:t>	</a:t>
            </a:r>
            <a:r>
              <a:rPr b="0" lang="en-US" sz="2200" spc="-1" strike="noStrike">
                <a:solidFill>
                  <a:srgbClr val="191919"/>
                </a:solidFill>
                <a:latin typeface="Arial"/>
              </a:rPr>
              <a:t>Identify how individual stakeholders in an economy will be effected e.g. domestic consumers, the labor force, exporting producers, social welfare recipients etc.</a:t>
            </a:r>
            <a:endParaRPr b="0" lang="en-US" sz="2200" spc="-1" strike="noStrike">
              <a:solidFill>
                <a:srgbClr val="000000"/>
              </a:solidFill>
              <a:latin typeface="Arial"/>
            </a:endParaRPr>
          </a:p>
        </p:txBody>
      </p:sp>
      <p:pic>
        <p:nvPicPr>
          <p:cNvPr id="1545"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ime Management HL</a:t>
            </a:r>
            <a:endParaRPr b="0" lang="en-US" sz="3200" spc="-1" strike="noStrike">
              <a:solidFill>
                <a:srgbClr val="000000"/>
              </a:solidFill>
              <a:latin typeface="Arial"/>
            </a:endParaRPr>
          </a:p>
        </p:txBody>
      </p:sp>
      <p:pic>
        <p:nvPicPr>
          <p:cNvPr id="1509" name="Content Placeholder 7" descr=""/>
          <p:cNvPicPr/>
          <p:nvPr/>
        </p:nvPicPr>
        <p:blipFill>
          <a:blip r:embed="rId2"/>
          <a:stretch/>
        </p:blipFill>
        <p:spPr>
          <a:xfrm>
            <a:off x="1908000" y="2590920"/>
            <a:ext cx="6950160" cy="340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ime Management SL</a:t>
            </a:r>
            <a:endParaRPr b="0" lang="en-US" sz="3200" spc="-1" strike="noStrike">
              <a:solidFill>
                <a:srgbClr val="000000"/>
              </a:solidFill>
              <a:latin typeface="Arial"/>
            </a:endParaRPr>
          </a:p>
        </p:txBody>
      </p:sp>
      <p:pic>
        <p:nvPicPr>
          <p:cNvPr id="1511" name="Content Placeholder 7" descr=""/>
          <p:cNvPicPr/>
          <p:nvPr/>
        </p:nvPicPr>
        <p:blipFill>
          <a:blip r:embed="rId2"/>
          <a:stretch/>
        </p:blipFill>
        <p:spPr>
          <a:xfrm>
            <a:off x="1914480" y="2610000"/>
            <a:ext cx="7047000" cy="32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2" name="Content Placeholder 2" descr=""/>
          <p:cNvPicPr/>
          <p:nvPr/>
        </p:nvPicPr>
        <p:blipFill>
          <a:blip r:embed="rId2"/>
          <a:stretch/>
        </p:blipFill>
        <p:spPr>
          <a:xfrm>
            <a:off x="1865160" y="811080"/>
            <a:ext cx="7034400" cy="5119920"/>
          </a:xfrm>
          <a:prstGeom prst="rect">
            <a:avLst/>
          </a:prstGeom>
          <a:ln w="0">
            <a:noFill/>
          </a:ln>
        </p:spPr>
      </p:pic>
      <p:pic>
        <p:nvPicPr>
          <p:cNvPr id="1513" name="Content Placeholder 5" descr="iStock_000006016620Small-1.jpg"/>
          <p:cNvPicPr/>
          <p:nvPr/>
        </p:nvPicPr>
        <p:blipFill>
          <a:blip r:embed="rId3"/>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Arial"/>
              </a:rPr>
              <a:t>Define Terms</a:t>
            </a:r>
            <a:endParaRPr b="0" lang="en-US" sz="4300" spc="-1" strike="noStrike">
              <a:solidFill>
                <a:srgbClr val="000000"/>
              </a:solidFill>
              <a:latin typeface="Arial"/>
            </a:endParaRPr>
          </a:p>
        </p:txBody>
      </p:sp>
      <p:sp>
        <p:nvSpPr>
          <p:cNvPr id="1515" name=""/>
          <p:cNvSpPr txBox="1"/>
          <p:nvPr/>
        </p:nvSpPr>
        <p:spPr>
          <a:xfrm>
            <a:off x="1913040" y="2612520"/>
            <a:ext cx="6937200" cy="3310200"/>
          </a:xfrm>
          <a:prstGeom prst="rect">
            <a:avLst/>
          </a:prstGeom>
          <a:solidFill>
            <a:srgbClr val="ffffff"/>
          </a:solidFill>
          <a:ln w="0">
            <a:noFill/>
          </a:ln>
        </p:spPr>
        <p:txBody>
          <a:bodyPr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howoff you precise definition of any relevant term and add a sentence that starts with “In other words. . .</a:t>
            </a:r>
            <a:endParaRPr b="0" lang="en-US" sz="2000" spc="-1" strike="noStrike">
              <a:solidFill>
                <a:srgbClr val="000000"/>
              </a:solidFill>
              <a:latin typeface="Arial"/>
            </a:endParaRPr>
          </a:p>
          <a:p>
            <a:pPr marL="270000" indent="939492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Economic growth refers to an increase in a country's total output of goods and services. It is measured by changes in real GDP (i.e. the increase in GDP after inflation has been removed). In other words it describes an improvement the level of the goods and services produced over a period of time.”</a:t>
            </a:r>
            <a:endParaRPr b="0" lang="en-US" sz="2000" spc="-1" strike="noStrike">
              <a:solidFill>
                <a:srgbClr val="000000"/>
              </a:solidFill>
              <a:latin typeface="Arial"/>
            </a:endParaRPr>
          </a:p>
        </p:txBody>
      </p:sp>
      <p:pic>
        <p:nvPicPr>
          <p:cNvPr id="1516"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Arial"/>
              </a:rPr>
              <a:t>Give Examples</a:t>
            </a:r>
            <a:endParaRPr b="0" lang="en-US" sz="4300" spc="-1" strike="noStrike">
              <a:solidFill>
                <a:srgbClr val="000000"/>
              </a:solidFill>
              <a:latin typeface="Arial"/>
            </a:endParaRPr>
          </a:p>
        </p:txBody>
      </p:sp>
      <p:sp>
        <p:nvSpPr>
          <p:cNvPr id="1518" name=""/>
          <p:cNvSpPr txBox="1"/>
          <p:nvPr/>
        </p:nvSpPr>
        <p:spPr>
          <a:xfrm>
            <a:off x="1913040" y="2612520"/>
            <a:ext cx="6937200" cy="3310200"/>
          </a:xfrm>
          <a:prstGeom prst="rect">
            <a:avLst/>
          </a:prstGeom>
          <a:solidFill>
            <a:srgbClr val="ffffff"/>
          </a:solidFill>
          <a:ln w="0">
            <a:noFill/>
          </a:ln>
        </p:spPr>
        <p:txBody>
          <a:bodyPr anchor="t">
            <a:normAutofit fontScale="96000"/>
          </a:bodyPr>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lude explanatory or relevant real-world examples.</a:t>
            </a:r>
            <a:endParaRPr b="0" lang="en-US" sz="2000" spc="-1" strike="noStrike">
              <a:solidFill>
                <a:srgbClr val="000000"/>
              </a:solidFill>
              <a:latin typeface="Arial"/>
            </a:endParaRPr>
          </a:p>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planatory Example: We can see that a country is experiencing economic growth if its GDP rose from 3% to 4% as this means that the total amount of goods and services has increased by 1% in one year.</a:t>
            </a:r>
            <a:endParaRPr b="0" lang="en-US" sz="2000" spc="-1" strike="noStrike">
              <a:solidFill>
                <a:srgbClr val="000000"/>
              </a:solidFill>
              <a:latin typeface="Arial"/>
            </a:endParaRPr>
          </a:p>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al World Example: The Chinese economy grew by 8.2% in 2009 according to Asian Development Bank. </a:t>
            </a:r>
            <a:endParaRPr b="0" lang="en-US" sz="2000" spc="-1" strike="noStrike">
              <a:solidFill>
                <a:srgbClr val="000000"/>
              </a:solidFill>
              <a:latin typeface="Arial"/>
            </a:endParaRPr>
          </a:p>
        </p:txBody>
      </p:sp>
      <p:pic>
        <p:nvPicPr>
          <p:cNvPr id="1519"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ear Writing</a:t>
            </a:r>
            <a:endParaRPr b="0" lang="en-US" sz="3200" spc="-1" strike="noStrike">
              <a:solidFill>
                <a:srgbClr val="000000"/>
              </a:solidFill>
              <a:latin typeface="Arial"/>
            </a:endParaRPr>
          </a:p>
        </p:txBody>
      </p:sp>
      <p:sp>
        <p:nvSpPr>
          <p:cNvPr id="1521" name=""/>
          <p:cNvSpPr txBox="1"/>
          <p:nvPr/>
        </p:nvSpPr>
        <p:spPr>
          <a:xfrm>
            <a:off x="1913040" y="2612520"/>
            <a:ext cx="6937200" cy="3310200"/>
          </a:xfrm>
          <a:prstGeom prst="rect">
            <a:avLst/>
          </a:prstGeom>
          <a:solidFill>
            <a:srgbClr val="ffffff"/>
          </a:solidFill>
          <a:ln w="0">
            <a:noFill/>
          </a:ln>
        </p:spPr>
        <p:txBody>
          <a:bodyPr anchor="t">
            <a:normAutofit fontScale="68000"/>
          </a:bodyPr>
          <a:p>
            <a:pPr marL="183600" indent="638820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ntroduction</a:t>
            </a:r>
            <a:endParaRPr b="0" lang="en-US" sz="20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hash the question and provide a context</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fine the key terms in the question</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line your main ideas</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xplain what your essay will do</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eshadow how you plan to evaluate</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 not write in the first 1st.  person (I will .. ) or essay is a formal in nature.</a:t>
            </a:r>
            <a:endParaRPr b="0" lang="en-US" sz="1800" spc="-1" strike="noStrike">
              <a:solidFill>
                <a:srgbClr val="000000"/>
              </a:solidFill>
              <a:latin typeface="Arial"/>
            </a:endParaRPr>
          </a:p>
        </p:txBody>
      </p:sp>
      <p:pic>
        <p:nvPicPr>
          <p:cNvPr id="1522"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913040" y="923760"/>
            <a:ext cx="6937200" cy="1386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agrams</a:t>
            </a:r>
            <a:endParaRPr b="0" lang="en-US" sz="3200" spc="-1" strike="noStrike">
              <a:solidFill>
                <a:srgbClr val="000000"/>
              </a:solidFill>
              <a:latin typeface="Arial"/>
            </a:endParaRPr>
          </a:p>
        </p:txBody>
      </p:sp>
      <p:sp>
        <p:nvSpPr>
          <p:cNvPr id="1524" name=""/>
          <p:cNvSpPr txBox="1"/>
          <p:nvPr/>
        </p:nvSpPr>
        <p:spPr>
          <a:xfrm>
            <a:off x="1912680" y="2612520"/>
            <a:ext cx="3429000" cy="3310200"/>
          </a:xfrm>
          <a:prstGeom prst="rect">
            <a:avLst/>
          </a:prstGeom>
          <a:solidFill>
            <a:srgbClr val="ffffff"/>
          </a:solidFill>
          <a:ln w="0">
            <a:noFill/>
          </a:ln>
        </p:spPr>
        <p:txBody>
          <a:bodyPr anchor="t">
            <a:normAutofit/>
          </a:bodyPr>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ways an opportunity to include a well labeled and appropriate diagram</a:t>
            </a:r>
            <a:endParaRPr b="0" lang="en-US" sz="1800" spc="-1" strike="noStrike">
              <a:solidFill>
                <a:srgbClr val="000000"/>
              </a:solidFill>
              <a:latin typeface="Arial"/>
            </a:endParaRPr>
          </a:p>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diagram is useless unless you </a:t>
            </a:r>
            <a:r>
              <a:rPr b="1" lang="en-US" sz="1800" spc="-1" strike="noStrike">
                <a:solidFill>
                  <a:srgbClr val="000000"/>
                </a:solidFill>
                <a:latin typeface="Arial"/>
              </a:rPr>
              <a:t>explain</a:t>
            </a:r>
            <a:r>
              <a:rPr b="0" lang="en-US" sz="1800" spc="-1" strike="noStrike">
                <a:solidFill>
                  <a:srgbClr val="000000"/>
                </a:solidFill>
                <a:latin typeface="Arial"/>
              </a:rPr>
              <a:t> it in your answer</a:t>
            </a:r>
            <a:endParaRPr b="0" lang="en-US" sz="1800" spc="-1" strike="noStrike">
              <a:solidFill>
                <a:srgbClr val="000000"/>
              </a:solidFill>
              <a:latin typeface="Arial"/>
            </a:endParaRPr>
          </a:p>
        </p:txBody>
      </p:sp>
      <p:sp>
        <p:nvSpPr>
          <p:cNvPr id="1525" name=""/>
          <p:cNvSpPr txBox="1"/>
          <p:nvPr/>
        </p:nvSpPr>
        <p:spPr>
          <a:xfrm>
            <a:off x="5433840" y="2612520"/>
            <a:ext cx="3416400" cy="3310200"/>
          </a:xfrm>
          <a:prstGeom prst="rect">
            <a:avLst/>
          </a:prstGeom>
          <a:solidFill>
            <a:srgbClr val="ffffff"/>
          </a:solidFill>
          <a:ln w="0">
            <a:noFill/>
          </a:ln>
        </p:spPr>
        <p:txBody>
          <a:bodyPr anchor="t">
            <a:normAutofit/>
          </a:bodyPr>
          <a:p>
            <a:pPr marL="270000" indent="939492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gure 1</a:t>
            </a:r>
            <a:endParaRPr b="0" lang="en-US" sz="1800" spc="-1" strike="noStrike">
              <a:solidFill>
                <a:srgbClr val="000000"/>
              </a:solidFill>
              <a:latin typeface="Arial"/>
            </a:endParaRPr>
          </a:p>
          <a:p>
            <a:pPr marL="270000" indent="939492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hift in Demand</a:t>
            </a:r>
            <a:endParaRPr b="0" lang="en-US" sz="1800" spc="-1" strike="noStrike">
              <a:solidFill>
                <a:srgbClr val="000000"/>
              </a:solidFill>
              <a:latin typeface="Arial"/>
            </a:endParaRPr>
          </a:p>
        </p:txBody>
      </p:sp>
      <p:pic>
        <p:nvPicPr>
          <p:cNvPr id="1526" name="Picture 3" descr="supplydemandrightshiftdemand.png"/>
          <p:cNvPicPr/>
          <p:nvPr/>
        </p:nvPicPr>
        <p:blipFill>
          <a:blip r:embed="rId2"/>
          <a:stretch/>
        </p:blipFill>
        <p:spPr>
          <a:xfrm>
            <a:off x="6019920" y="35053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1913040" y="923760"/>
            <a:ext cx="6937200" cy="1386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ata Response Questions</a:t>
            </a:r>
            <a:endParaRPr b="0" lang="en-US" sz="3200" spc="-1" strike="noStrike">
              <a:solidFill>
                <a:srgbClr val="000000"/>
              </a:solidFill>
              <a:latin typeface="Arial"/>
            </a:endParaRPr>
          </a:p>
        </p:txBody>
      </p:sp>
      <p:sp>
        <p:nvSpPr>
          <p:cNvPr id="1528" name=""/>
          <p:cNvSpPr txBox="1"/>
          <p:nvPr/>
        </p:nvSpPr>
        <p:spPr>
          <a:xfrm>
            <a:off x="1912680" y="2612520"/>
            <a:ext cx="3429000" cy="3310200"/>
          </a:xfrm>
          <a:prstGeom prst="rect">
            <a:avLst/>
          </a:prstGeom>
          <a:solidFill>
            <a:srgbClr val="ffffff"/>
          </a:solidFill>
          <a:ln w="0">
            <a:noFill/>
          </a:ln>
        </p:spPr>
        <p:txBody>
          <a:bodyPr anchor="t">
            <a:normAutofit/>
          </a:bodyPr>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e information that is included in the text</a:t>
            </a:r>
            <a:endParaRPr b="0" lang="en-US" sz="1800" spc="-1" strike="noStrike">
              <a:solidFill>
                <a:srgbClr val="000000"/>
              </a:solidFill>
              <a:latin typeface="Arial"/>
            </a:endParaRPr>
          </a:p>
        </p:txBody>
      </p:sp>
      <p:pic>
        <p:nvPicPr>
          <p:cNvPr id="1529" name="" descr=""/>
          <p:cNvPicPr/>
          <p:nvPr/>
        </p:nvPicPr>
        <p:blipFill>
          <a:blip r:embed="rId2"/>
          <a:stretch/>
        </p:blipFill>
        <p:spPr>
          <a:xfrm>
            <a:off x="5433840" y="2612520"/>
            <a:ext cx="3416400" cy="3310200"/>
          </a:xfrm>
          <a:prstGeom prst="rect">
            <a:avLst/>
          </a:prstGeom>
          <a:ln w="0">
            <a:noFill/>
          </a:ln>
        </p:spPr>
      </p:pic>
      <p:pic>
        <p:nvPicPr>
          <p:cNvPr id="1530" name="Picture 3" descr="Northern Miner.jpg"/>
          <p:cNvPicPr/>
          <p:nvPr/>
        </p:nvPicPr>
        <p:blipFill>
          <a:blip r:embed="rId3"/>
          <a:stretch/>
        </p:blipFill>
        <p:spPr>
          <a:xfrm>
            <a:off x="5791320" y="2612880"/>
            <a:ext cx="2557440" cy="33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22:44:09Z</dcterms:created>
  <dc:creator>Canadian Academy</dc:creator>
  <dc:description/>
  <dc:language>en-US</dc:language>
  <cp:lastModifiedBy>Canadian Academy</cp:lastModifiedBy>
  <dcterms:modified xsi:type="dcterms:W3CDTF">2010-09-05T23:16:57Z</dcterms:modified>
  <cp:revision>6</cp:revision>
  <dc:subject/>
  <dc:title>Writing the IB Economics Exam</dc:title>
</cp:coreProperties>
</file>